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66C-BAD0-4DA7-BA51-2176711A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DB5-DC4C-4468-B6FD-B02CFBDC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112-1A8D-4A73-B762-407DF1B6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186-90A7-48AA-9E42-F90CC153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219-0946-4831-BE0D-34861A11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0CA7-9F65-47A3-9016-E7C561EC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1531-364E-4314-A77C-DD65F75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A14-1788-4C5E-9885-D30A3F90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BBCD-ED65-4B24-91D1-5FDE652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84C8-A56F-47F3-8E31-3975D2E6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376-3F3D-46C9-A274-26C5F141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EE5-27AF-4A7F-A8F0-B89EEBE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FF8C-D755-4FD8-9489-2C76EE65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6708-B872-48B6-B370-F45659B8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E46-7BA6-40E8-8BC4-A314F205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44E-844E-457E-B115-F430AA2F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C1E-F174-4A20-9053-25E83BF0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DDA-1D0E-4B10-AA56-D6CBC558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61B-EB1F-416C-8532-2033B67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F18-A1A9-4A04-A754-CB64318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262-15AF-499A-9F61-4F54B1F8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234-CE79-4AA7-AFE2-ED15512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D0B-6D53-4902-9159-B7034D6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B86-E5CA-4797-8EF0-F10531F5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4298-E14F-4D44-9586-7B6D62C7C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205B-3547-4D16-810C-305B85C3D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ath to Revolution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ritish Action: Repeal of Stamp Act and passage of Declaratory Act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withdrew the Stamp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American protest and the damage to British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laratory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affirmed Parliament’s right to bind the colonies in all cases whatso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not yield absolute and unqualified sovereignty over North American Colonies; reasserting dom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Rejoicing over Repeal; Ignoring Declaratory Ac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ing over Repeal: built a statue of King Georg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believed they were successf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nored Declaratory Act: did not think they were subject to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t clear that they wanted a measure of sovereignty of their ow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take drastic action to secur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Townshend dut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hend Acts- light duty on glass, white lead, paper, paint and tea; indirect customs duty payable at American 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shend was promising control over the colon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to be used to pay salaries of royal governors &amp; judges 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ycotts, Petitions, Newspaper Attack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in rebellious mood due to recent victory over the stamp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n’t tax the tax seri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to smuggle 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ston Massacr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owd of 60 colonists set upon redcoats; troops opened fire and killed or wounded 11 colon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Tea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East India Company would be able to sell tea leaves at a cheaper price than ever before; gave complete monopoly of American tea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To prevent the British East India Company from collapsing &amp; as a result losing tax reven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ince colonists to purchase company tea as opposed to smuggled 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st Reaction: Protest, Boston Tea Par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Colonists saw this as an attempt to trick the colonists to accept the detested tax with the bait of cheaper 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protested the tea: forced tea-bearing ships to return to England with their car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s ordered not to leave Boston Harbor until cargo unload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Bostonians disguised as Native Americans boarded the ships and dumped their contents into the harb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4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010120" cy="285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31244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Quartering Act, 17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rtering 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rovided colonists to provide housing for soldiers; allowed a governor to house soldiers in other buildings if suitable quarters were not provi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effective method of housing British troops in America; for colonists’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Protest in Assemb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to house the British; caused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mblies refused to pay amount requested for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fear of standing army, cost of expenses for a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Coercive/Intolerable 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es of acts designed to chastise Massachusetts (Bost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of colonial Massachusetts were swept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ed in response to the Boston Tea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Proclamation of 176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ed settlement in area beyond the Appalachi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designed to oppress colonists, but work out Indian problem fai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uprisings like Pontiac’s rebell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ycott, Convening of First Continental Congres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punishment was brutal and seemed far too cruel for the cr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ongress in Philadelphia: met to consider ways of redressing colonial griev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ew up Declaration of Rights &amp; appeals to British an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ssociation called for complete boycott of British goods: nonimportation, nonexportation, non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Lexington and Conco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end troops to Lexington and Con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al Minute Men refused to disperse and shots were fired that killed 8 Americans and wounded several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xington Massac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to seize stores of colonial gunpowder &amp; capture rebel ring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“Common Sense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ost influential pamphlets ever wr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e put forth: why should the tiny island of Great Britain control the vast continent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colonial unity was poor, open rebellion was dangerous, Paine thought colonists up to this point were behaving contrary to common sen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st Reaction: Resentment &amp; failure to comply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beyond mountains their birth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d it with their blood in recent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fianc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d we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 wagons on their way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Sugar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Act: First law ever passed for raising tax revenue in colonies for the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the duty on foreign sugar imported from the West In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ed b/c of British debt incurred defending the American colon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Boston Experimented with Boycott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cotts, smuggled sugar, meet to protes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No taxation without 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sts distinguish between legislation and ta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 has the right to legislate about matters affecting entire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o right to impose taxes on Americans b/c no Americans seated on Parlia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Currency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d paper money issued by the colonies of Britis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ght to protect British merchants and creditors from being paid in depreciated colonial curr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lonial Reaction: Smoldering Resent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: Created financial difficulties in the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gold and silver were in short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lobbied for repeal of the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itish Action: Stamp Ac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d: Stamp Act: mandated the use of stamped paper or the affixing of stamps, which certified payment of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mps required on bills of sale, commercial and legal documents (playing cards, pamphlets, newspapers, diplomas, marriage licens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: To raise revenues to support new military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ing Americans to pay a fair share of the costs for their own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lonial Reaction: Petitions, Boycott, Violence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: colonists angrily aroused at what they regarded as Grenville’s fiscal ag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: Jeopardizing basic rights of the colonists as English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ation without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 of Liberty &amp; Daughters of Liberty: patriotic m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1:12:50Z</dcterms:created>
  <dc:creator>emily.johnson</dc:creator>
  <dc:description/>
  <dc:language>en-US</dc:language>
  <cp:lastModifiedBy>emily.johnson</cp:lastModifiedBy>
  <dcterms:modified xsi:type="dcterms:W3CDTF">2012-09-18T20:21:56Z</dcterms:modified>
  <cp:revision>7</cp:revision>
  <dc:subject/>
  <dc:title>Path to Revolution </dc:title>
</cp:coreProperties>
</file>